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9292-CCDE-41F9-89F5-88FFFBD895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feelings that come to mind after reading these wor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e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ancho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feelings that come to mind after reading these wor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e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ancho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f these words are from a very famous poem. Make some guesses about the setting and atmosphere of the poem such a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day is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year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author feeling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he alone or with other peopl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f these words are from a very famous poem. Make some guesses about the setting and atmosphere of the poem such a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day is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year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author feeling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he alone or with other peopl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http://www.ojai.net/swanson/therave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e Rav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by Edgar Allan P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http://www.ojai.net/swanson/therave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e Rav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by Edgar Allan P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have happened to the character before the events of the poem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have happened to the character before the events of the poem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Edgar Allan Poe use a raven instead of another bird as the major symbol of this po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Edgar Allan Poe use a raven instead of another bird as the major symbol of this po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we associ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ave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we associ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ave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say that Edgar Allan Poe sets the scene and cre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mosphere b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he uses the raven to symboli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say that Edgar Allan Poe sets the scene and cre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mosphere b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he uses the raven to symboli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A9C1-F9CD-47F3-BB10-BA58AA9C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EB30-4376-413B-B7C6-2E3B1CF4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0407-98EE-44E0-9338-05944F83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98EC-BA38-407C-B5A2-CE56BB4B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C986-2E33-4753-A0F6-FBE006F2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87B2-88D5-4EFF-986D-25274B17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ACB-F703-44EB-BF19-9BE4915A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869B-B9F1-4422-94C7-D0D9905A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4B7E-5E0B-41AC-B955-C726402B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1859-A196-49AD-8BEE-D3025DEC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7528-27E8-46B9-A92D-FCDBAB7F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B352-23D9-419C-9747-11ED0A8A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88F9-20B1-4B89-998E-A05AF0BA71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jai.net/swanson/theraven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53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Atmosphere and symbolism in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poet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914400" y="2819520"/>
            <a:ext cx="79246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00"/>
                </a:solidFill>
                <a:uFillTx/>
                <a:latin typeface="Times New Roman"/>
              </a:rPr>
              <a:t>LO’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53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Atmosphere and symbolism in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poet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14400" y="2819520"/>
            <a:ext cx="79246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00"/>
                </a:solidFill>
                <a:uFillTx/>
                <a:latin typeface="Times New Roman"/>
              </a:rPr>
              <a:t>LO’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04920" y="228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Describe the feelings that come to mind after reading these word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57200" y="2895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e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953600" y="31957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Bl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429280" y="5834160"/>
            <a:ext cx="159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lackadder ITC"/>
              </a:rPr>
              <a:t>Gh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734520" y="4255920"/>
            <a:ext cx="128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rinda"/>
              </a:rPr>
              <a:t>L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585600" y="2057400"/>
            <a:ext cx="15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Eras Demi ITC"/>
              </a:rPr>
              <a:t>S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873120" y="253224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Medium Cond"/>
              </a:rPr>
              <a:t>Dark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5562720" y="5943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ngravers MT"/>
              </a:rPr>
              <a:t>Melancho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3139920" y="389736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Gr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609480" y="48769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Modern"/>
              </a:rPr>
              <a:t>Still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4061880" y="4802040"/>
            <a:ext cx="147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aramond"/>
              </a:rPr>
              <a:t>Ste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80880" y="838080"/>
            <a:ext cx="853452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l of these words are from a very famous poem. Make some guesses about the setting and atmosphere of the poem such a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time of day is i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time of yea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is the author feeli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he alone or with other people?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2666880"/>
            <a:ext cx="7238880" cy="58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ojai.net/swanson/theraven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2923560" y="533520"/>
            <a:ext cx="3252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Blackadder ITC"/>
              </a:rPr>
              <a:t>The Raven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by</a:t>
            </a: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Edgar Allan P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raven"/>
          <p:cNvPicPr/>
          <p:nvPr/>
        </p:nvPicPr>
        <p:blipFill>
          <a:blip r:embed="rId2"/>
          <a:stretch/>
        </p:blipFill>
        <p:spPr>
          <a:xfrm>
            <a:off x="3352680" y="3733920"/>
            <a:ext cx="26863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12"/>
          <p:cNvGrpSpPr/>
          <p:nvPr/>
        </p:nvGrpSpPr>
        <p:grpSpPr>
          <a:xfrm>
            <a:off x="533520" y="457200"/>
            <a:ext cx="8001000" cy="5715000"/>
            <a:chOff x="533520" y="457200"/>
            <a:chExt cx="8001000" cy="5715000"/>
          </a:xfrm>
        </p:grpSpPr>
        <p:sp>
          <p:nvSpPr>
            <p:cNvPr id="66" name="Rectangle 5"/>
            <p:cNvSpPr/>
            <p:nvPr/>
          </p:nvSpPr>
          <p:spPr>
            <a:xfrm>
              <a:off x="533520" y="457200"/>
              <a:ext cx="8001000" cy="571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6"/>
            <p:cNvSpPr/>
            <p:nvPr/>
          </p:nvSpPr>
          <p:spPr>
            <a:xfrm>
              <a:off x="3657600" y="457200"/>
              <a:ext cx="0" cy="57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7"/>
            <p:cNvSpPr/>
            <p:nvPr/>
          </p:nvSpPr>
          <p:spPr>
            <a:xfrm>
              <a:off x="533520" y="1066680"/>
              <a:ext cx="800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>
              <a:off x="609480" y="533520"/>
              <a:ext cx="38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n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9"/>
            <p:cNvSpPr/>
            <p:nvPr/>
          </p:nvSpPr>
          <p:spPr>
            <a:xfrm>
              <a:off x="3733920" y="5335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echniqu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0"/>
            <p:cNvSpPr/>
            <p:nvPr/>
          </p:nvSpPr>
          <p:spPr>
            <a:xfrm>
              <a:off x="5943600" y="457200"/>
              <a:ext cx="0" cy="57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11"/>
            <p:cNvSpPr/>
            <p:nvPr/>
          </p:nvSpPr>
          <p:spPr>
            <a:xfrm>
              <a:off x="6019920" y="5335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ffec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295280" y="380880"/>
            <a:ext cx="649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might have happened to the character before the events of the poem happ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685800" y="228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y does Edgar Allan Poe use a raven instead of another bird as the major symbol of this po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ravenII"/>
          <p:cNvPicPr/>
          <p:nvPr/>
        </p:nvPicPr>
        <p:blipFill>
          <a:blip r:embed="rId1"/>
          <a:stretch/>
        </p:blipFill>
        <p:spPr>
          <a:xfrm>
            <a:off x="3581280" y="1371600"/>
            <a:ext cx="1833840" cy="2452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6" name="Text Box 4"/>
          <p:cNvSpPr/>
          <p:nvPr/>
        </p:nvSpPr>
        <p:spPr>
          <a:xfrm>
            <a:off x="304920" y="43434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Why not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duck"/>
          <p:cNvPicPr/>
          <p:nvPr/>
        </p:nvPicPr>
        <p:blipFill>
          <a:blip r:embed="rId2"/>
          <a:stretch/>
        </p:blipFill>
        <p:spPr>
          <a:xfrm>
            <a:off x="609480" y="51814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parrot"/>
          <p:cNvPicPr/>
          <p:nvPr/>
        </p:nvPicPr>
        <p:blipFill>
          <a:blip r:embed="rId3"/>
          <a:stretch/>
        </p:blipFill>
        <p:spPr>
          <a:xfrm>
            <a:off x="2362320" y="518148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dove"/>
          <p:cNvPicPr/>
          <p:nvPr/>
        </p:nvPicPr>
        <p:blipFill>
          <a:blip r:embed="rId4"/>
          <a:stretch/>
        </p:blipFill>
        <p:spPr>
          <a:xfrm>
            <a:off x="4114800" y="5181480"/>
            <a:ext cx="1447920" cy="1086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penguin"/>
          <p:cNvPicPr/>
          <p:nvPr/>
        </p:nvPicPr>
        <p:blipFill>
          <a:blip r:embed="rId5"/>
          <a:stretch/>
        </p:blipFill>
        <p:spPr>
          <a:xfrm>
            <a:off x="5791320" y="518148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canary"/>
          <p:cNvPicPr/>
          <p:nvPr/>
        </p:nvPicPr>
        <p:blipFill>
          <a:blip r:embed="rId6"/>
          <a:stretch/>
        </p:blipFill>
        <p:spPr>
          <a:xfrm>
            <a:off x="7467480" y="5181480"/>
            <a:ext cx="121932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2"/>
          <p:cNvSpPr/>
          <p:nvPr/>
        </p:nvSpPr>
        <p:spPr>
          <a:xfrm>
            <a:off x="2514600" y="2590920"/>
            <a:ext cx="3962520" cy="182880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What might we associ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with rave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ravenII"/>
          <p:cNvPicPr/>
          <p:nvPr/>
        </p:nvPicPr>
        <p:blipFill>
          <a:blip r:embed="rId1"/>
          <a:stretch/>
        </p:blipFill>
        <p:spPr>
          <a:xfrm>
            <a:off x="228600" y="228600"/>
            <a:ext cx="12081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96280" y="304920"/>
            <a:ext cx="772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could say that Edgar Allan Poe sets the scene and cre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atmosphere by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28600" y="3505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 he uses the raven to symbolis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6:33:15Z</dcterms:created>
  <dc:creator>anna</dc:creator>
  <dc:description>The Raven</dc:description>
  <cp:keywords>The Raven</cp:keywords>
  <dc:language>en-US</dc:language>
  <cp:lastModifiedBy>RomaK</cp:lastModifiedBy>
  <dcterms:modified xsi:type="dcterms:W3CDTF">2015-09-04T10:39:49Z</dcterms:modified>
  <cp:revision>9</cp:revision>
  <dc:subject>The Raven</dc:subject>
  <dc:title>The Raven</dc:title>
</cp:coreProperties>
</file>